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13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14.png" ContentType="image/png"/>
  <Override PartName="/ppt/media/image9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721B-2C4F-40F2-885D-97A5E2112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CF23-8DAE-43E0-B119-2026F1A49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426D-E89B-4E74-A461-E791EDF2B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25E3-345E-4D8D-897E-FD65C508C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4248-4DBD-4116-A00C-0EC8BD192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2DF9-6DFA-4225-B1E9-631606164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127D-0DB7-4580-9DA4-5348350E7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D21D-6DE2-4FE5-A50A-936824A7D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D30A-580E-4876-A7A9-E359EF261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BD3F-B905-4C96-A4DA-CE451C4EE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2FF0-FBBD-4DE3-AA15-77DA75427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71EF-6D61-46A8-879F-9C1F1FB39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589-06E6-48D6-8129-1ACF2F70868D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nquiringminds.org.uk/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565360"/>
            <a:ext cx="6813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Developing 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1</a:t>
            </a:r>
            <a:endParaRPr b="0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85" name=""/>
          <p:cNvSpPr/>
          <p:nvPr/>
        </p:nvSpPr>
        <p:spPr>
          <a:xfrm>
            <a:off x="1655640" y="486828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and Ms. Tarfa Al-Na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Research Skills Development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orkshop Schedule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4680" y="2155320"/>
            <a:ext cx="777240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v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Ideas and Motivating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v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and Shaping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v 3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c 2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ing Data; Reporting and Sharing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essions will be from 3:00 – 5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Moving from Teacher-Centered to Student-Centered Research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2950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tructured Enqui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dir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573360"/>
            <a:ext cx="338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Supported Enqui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acher and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ppor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5157720"/>
            <a:ext cx="2951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  <a:ea typeface="Arial"/>
              </a:rPr>
              <a:t>Open Enqui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udent dir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coura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86800">
            <a:off x="3634920" y="2204640"/>
            <a:ext cx="2016360" cy="647640"/>
          </a:xfrm>
          <a:custGeom>
            <a:avLst/>
            <a:gdLst>
              <a:gd name="textAreaLeft" fmla="*/ 352800 w 2016360"/>
              <a:gd name="textAreaRight" fmla="*/ 1461960 w 2016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86800">
            <a:off x="6587640" y="3933360"/>
            <a:ext cx="2016360" cy="647640"/>
          </a:xfrm>
          <a:custGeom>
            <a:avLst/>
            <a:gdLst>
              <a:gd name="textAreaLeft" fmla="*/ 352800 w 2016360"/>
              <a:gd name="textAreaRight" fmla="*/ 1461960 w 2016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at do we expect from you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55320"/>
            <a:ext cx="77724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you will go back to your schools and try out some of the strategies and activities that we present in the workshop, and let us know what hap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8362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ere do research ideas come from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98600" y="1628640"/>
            <a:ext cx="1841760" cy="1327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0" y="1549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w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earch top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4974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w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ics from the stud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3698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Where do research ideas come from?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47640" y="1916280"/>
            <a:ext cx="5472360" cy="4679280"/>
            <a:chOff x="1547640" y="1916280"/>
            <a:chExt cx="5472360" cy="4679280"/>
          </a:xfrm>
        </p:grpSpPr>
        <p:sp>
          <p:nvSpPr>
            <p:cNvPr id="131" name=""/>
            <p:cNvSpPr/>
            <p:nvPr/>
          </p:nvSpPr>
          <p:spPr>
            <a:xfrm>
              <a:off x="1835280" y="1916280"/>
              <a:ext cx="2952720" cy="2881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7640" y="2698200"/>
              <a:ext cx="2519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rricul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1280" y="1916280"/>
              <a:ext cx="2952720" cy="28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87640" y="3714840"/>
              <a:ext cx="2952720" cy="28807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0720" y="2698200"/>
              <a:ext cx="2519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cal 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3640" y="5157360"/>
              <a:ext cx="2519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b">
              <a:spAutoFit/>
            </a:bodyPr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The Curriculum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0760" cy="399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35640" y="5445000"/>
            <a:ext cx="1368360" cy="115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79640" y="5157720"/>
            <a:ext cx="4824360" cy="1446120"/>
            <a:chOff x="1979640" y="5157720"/>
            <a:chExt cx="4824360" cy="14461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979640" y="5157720"/>
              <a:ext cx="481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35640" y="5516640"/>
              <a:ext cx="1368360" cy="100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The Local and Regional Culture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58920" y="2606760"/>
          <a:ext cx="914400" cy="1920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1877040">
                <a:tc>
                  <a:txBody>
                    <a:bodyPr lIns="93600" rIns="936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</a:tr>
              <a:tr h="185400"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inking gree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</a:tr>
            </a:tbl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531000" y="1196640"/>
            <a:ext cx="5466960" cy="3178800"/>
            <a:chOff x="531000" y="1196640"/>
            <a:chExt cx="5466960" cy="3178800"/>
          </a:xfrm>
        </p:grpSpPr>
        <p:sp>
          <p:nvSpPr>
            <p:cNvPr id="146" name=""/>
            <p:cNvSpPr/>
            <p:nvPr/>
          </p:nvSpPr>
          <p:spPr>
            <a:xfrm>
              <a:off x="681840" y="1196640"/>
              <a:ext cx="5316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Green issues to top agenda at finance meetin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 posted at: 10/26/2008 4:40:2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::: The Peninsul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000" y="4007160"/>
              <a:ext cx="34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HA • 'Green Economy' will take centre stage at the upcom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ha Global Conference on Financing for Development 2008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809280" y="2205000"/>
              <a:ext cx="2467080" cy="16653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9" name=""/>
          <p:cNvGraphicFramePr/>
          <p:nvPr/>
        </p:nvGraphicFramePr>
        <p:xfrm>
          <a:off x="4067280" y="4797360"/>
          <a:ext cx="4749840" cy="1914480"/>
        </p:xfrm>
        <a:graphic>
          <a:graphicData uri="http://schemas.openxmlformats.org/drawingml/2006/table">
            <a:tbl>
              <a:tblPr/>
              <a:tblGrid>
                <a:gridCol w="1582560"/>
                <a:gridCol w="650880"/>
                <a:gridCol w="2516400"/>
              </a:tblGrid>
              <a:tr h="191448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dd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HE NATION|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  <a:ea typeface="Arial"/>
                        </a:rPr>
                        <a:t>Reinforcement measures around Dubai's coastline should be taken to avoid any damage from rising sea levels caused by climate chang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140360" y="4941720"/>
            <a:ext cx="1944360" cy="147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202280" y="1828800"/>
            <a:ext cx="95040" cy="95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67280" y="428832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mate Change Could Affect Dubai Coastline Rad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The Students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2709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sues or topics are students interested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fin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84720" y="3141720"/>
            <a:ext cx="1451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Strategies for Getting Ideas from Students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38098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408ae"/>
                </a:solidFill>
                <a:latin typeface="Arial"/>
              </a:rPr>
              <a:t>Desert Island Obj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96056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00720" y="1356120"/>
            <a:ext cx="4464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are getting sent to this desert is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You can only take six items with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y can be practical items to help you surv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ey can be items that remind you of what you are leaving beh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588560"/>
            <a:ext cx="8208720" cy="193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ork in small groups discussing your rea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ork with whole class to list all of the items and discuss similarities and differ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nd goal:  What’s important to students. How can this information be used to start a research proj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Strategies for Getting Ideas from Students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3810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408ae"/>
                </a:solidFill>
                <a:latin typeface="Arial"/>
              </a:rPr>
              <a:t>Future Autobiograph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860760"/>
            <a:ext cx="4103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vide photos of seniors in the community – a family member or famous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rite a group autobiography about this person.  What was their live like? What experiences did they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893480"/>
            <a:ext cx="8208720" cy="163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etend the year is 2050.  You are 60 years ol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rite your life story.  What did you do? What did you accomplis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his activity can give you insights into what students value and what they want to achie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Goals of this Workshop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ain a broader understanding of student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learn specific strategies for initiating student research, for shaping and refining research ideas, for collecting and analyzing data, and for reporting and sharing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become acquainted with digital tools and resources that can enhance the teaching of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Strategies for Getting Ideas from Students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1729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33"/>
                </a:solidFill>
                <a:latin typeface="Arial"/>
              </a:rPr>
              <a:t>Data R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1502280"/>
            <a:ext cx="41036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me up with a group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many bottles of water are consumed in Doha each d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many new cars are added to the highways in Qatar each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ow quickly can we find 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501080"/>
            <a:ext cx="8208720" cy="224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acher decides how much help to give (e.g., suggesting sources of information, where to l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urn students loose. Give an award to the student who can find the information first, and explain how he/she got the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se this activity to raise questions about the accuracy and sources of information. How can this be redirected into a research activ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382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For more ideas . . .</a:t>
            </a:r>
            <a:r>
              <a:rPr b="0" i="1" lang="en-US" sz="32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0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53262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Enquiring Minds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nquiringminds.org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692360" y="2970360"/>
            <a:ext cx="583236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What traits must students have to be successful in research?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74872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ask goo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pticism. . . don’t believe everything you read, see, or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. . . play by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Thank you for listening!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If you have questions about research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or need additional information,</a:t>
            </a:r>
            <a:br>
              <a:rPr sz="2800"/>
            </a:br>
            <a:r>
              <a:rPr b="1" i="1" lang="en-GB" sz="2800" spc="-1" strike="noStrike">
                <a:solidFill>
                  <a:srgbClr val="0da9a9"/>
                </a:solidFill>
                <a:latin typeface="Century Schoolbook"/>
              </a:rPr>
              <a:t>feel free to contact me.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48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09800" y="2143080"/>
            <a:ext cx="35244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91856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search is</a:t>
            </a:r>
            <a:r>
              <a:rPr b="0" i="1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iligent and systematic inquiry or investigation into a subject in order to discover or revise facts, theories, applications. . 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dictiona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53564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Creating new knowled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262160"/>
            <a:ext cx="806436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lgun Gothic"/>
              </a:rPr>
              <a:t>Paper Research/Library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Given a topic, search for information on that topic and summarize what you f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Write a report on global wa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Teaches student how to search for information, how to evaluate information (ICT Literacy), and how to summarize and synthesiz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is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Students copy information or knowledge rather than creat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a9a9"/>
                </a:solidFill>
                <a:latin typeface="Century Schoolbook"/>
              </a:rPr>
              <a:t>What is research?</a:t>
            </a:r>
            <a:endParaRPr b="0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523880"/>
            <a:ext cx="80643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lgun Gothic"/>
              </a:rPr>
              <a:t>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Given a topic or question, systematically investigate that topic to discover new information, facts, or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What do secondary students think about having to do community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Teaches students how to create new knowledge; empowers them to study issues that are important t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algun Gothic"/>
              </a:rPr>
              <a:t>Disadvantages:</a:t>
            </a: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  Takes a lot of one-on-one or small group instruction; and not all students are inter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20755200">
            <a:off x="324000" y="1209240"/>
            <a:ext cx="4465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Comic Sans MS"/>
              </a:rPr>
              <a:t>Who is responsible for teaching research?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 rot="702600">
            <a:off x="4070520" y="1856880"/>
            <a:ext cx="5181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7df8d"/>
                </a:solidFill>
                <a:latin typeface="Comic Sans MS"/>
              </a:rPr>
              <a:t>What research skills should be taught at each grade? (7-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891400">
            <a:off x="395280" y="3428640"/>
            <a:ext cx="439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c554a"/>
                </a:solidFill>
                <a:latin typeface="Century Schoolbook"/>
              </a:rPr>
              <a:t>Should all students be expected to do resear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5241960"/>
            <a:ext cx="79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A school-wide research model may help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71560" y="77760"/>
          <a:ext cx="5599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77760"/>
                    <a:ext cx="5599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447720"/>
            <a:ext cx="2592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a9a9"/>
                </a:solidFill>
                <a:latin typeface="Century Schoolbook"/>
              </a:rPr>
              <a:t>Enquiry Cycle</a:t>
            </a:r>
            <a:endParaRPr b="0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1916280"/>
            <a:ext cx="3168720" cy="100800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227664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299736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348000" y="4725360"/>
            <a:ext cx="2016000" cy="43164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99640" y="28519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66860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Getting Ideas and Motivating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4370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Collecting and Analy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051360"/>
            <a:ext cx="24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Defin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p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0751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Report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9-01-05T07:54:16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02460821</vt:r8>
  </property>
  <property fmtid="{D5CDD505-2E9C-101B-9397-08002B2CF9AE}" pid="3" name="_AuthorEmail">
    <vt:lpwstr>rsami@sec.gov.qa</vt:lpwstr>
  </property>
  <property fmtid="{D5CDD505-2E9C-101B-9397-08002B2CF9AE}" pid="4" name="_AuthorEmailDisplayName">
    <vt:lpwstr>Rawya Sami</vt:lpwstr>
  </property>
  <property fmtid="{D5CDD505-2E9C-101B-9397-08002B2CF9AE}" pid="5" name="_EmailSubject">
    <vt:lpwstr>Plz repalce the already existing file </vt:lpwstr>
  </property>
  <property fmtid="{D5CDD505-2E9C-101B-9397-08002B2CF9AE}" pid="6" name="_PreviousAdHocReviewCycleID">
    <vt:r8>1902460821</vt:r8>
  </property>
  <property fmtid="{D5CDD505-2E9C-101B-9397-08002B2CF9AE}" pid="7" name="_ReviewingToolsShownOnce">
    <vt:lpwstr/>
  </property>
</Properties>
</file>